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2C87-8D1F-4499-835C-092A88EB2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9933-4D67-4299-BF2E-36FADC85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6093-C4F8-489B-941A-070A789F7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7978-00C8-49BD-BC09-0DD42476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5A36-7650-47BD-89F9-7568AC02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14C7-BB24-4E16-8698-8644B588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A3DE-9F10-48FB-BCFC-ED94AF53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1DF6-9984-4A58-A5E5-45980609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F523-4261-42AE-AD28-91D6CC79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BCD8-BF55-4620-9F80-115985FF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B56A-6EEB-4F68-BA41-1B77212E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459F-C276-4220-974D-51998794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150A-0F79-4DF4-8B6C-26451782F2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Transmission_Control_Protoco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omputer_network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b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tArpTa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thereal (wireshar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ethereal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wireshark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sni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monkey.org/%7Edugsong/dsniff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ter: netfilter stu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ww.netfilter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vestigate windo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 add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pconfi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tst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erou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c addr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 http://coffer.com/mac_find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to chang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e Ethernet adapter's Properties menu, in the Advanced tab, as "MAC Address", "Locally Administered Address", "Ethernet Address", "Physical Address" or "Network Address"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pconfi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plays all current TCP/IP network configuration values and refreshes Dynamic Host Configuration Protocol (DHCP) and Domain Name System (DNS) setting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technet.microsoft.com/en-us/library/bb490921.asp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vestigate windo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tst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plays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network connec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both incoming and outgoing), routing tables, and a number of network interface statist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en.wikipedia.org/wiki/Netst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ies IP-level connectivity to another TCP/IP computer by sending Internet Control Message Protocol (ICMP) Echo Request messages. The receipt of corresponding Echo Reply messages are displayed, along with round-trip tim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en.wikipedia.org/wiki/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en.wikipedia.org/wiki/Internet_Control_Message_Protoc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aceroute (tracert on window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racerout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s a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omputer networ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ol used to determine the route taken by packets across an IP network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nds UDP packages, listens to ICMP answ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s TTL field in I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rst send packets with TTL 1, then TTL 2, TTL 3, et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ne of the two ICMP messages that Traceroute receives is the message port unreachable. The second one is the message time exceeded (TTL is 0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ttp://en.wikipedia.org/wiki/Tracerou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ndows: netsh -c dia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technet.microsoft.com/en-us/library/bb490939.asp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l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r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ndows: http://www.windowsreference.com/windows-xp/how-to-clear-arp-cache-in-windows-vistaxp20032000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p -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face 220.0.0.8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 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et Address Physical Address Type    220.0.0.160 00-50-04-62-F7-23 static The Physical Address or MAC address as shown above in the format aa-bb-cc-dd-ee-ff is the unique manufacturer identification number. This number should always be a unique addres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example of how to change the above IP address 220.0.0.160 to 220.0.0.161 in this case would be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p -s 220.0.0.161 00-50-04-62-F7-23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8:56:46Z</dcterms:created>
  <dc:creator>Tanel Tammet</dc:creator>
  <dc:description/>
  <dc:language>en-US</dc:language>
  <cp:lastModifiedBy>Tanel Tammet</cp:lastModifiedBy>
  <dcterms:modified xsi:type="dcterms:W3CDTF">2008-04-11T07:57:29Z</dcterms:modified>
  <cp:revision>20</cp:revision>
  <dc:subject/>
  <dc:title>Lab 1</dc:title>
</cp:coreProperties>
</file>